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259-9E78-4D92-A46A-F5D8B2A4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D18-19E8-438C-A889-08D655EF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4CE-D751-4888-91F0-17ACD124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F86-8DF1-4C80-B4DA-AE46E017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404-70DB-40E6-8384-5FF61A61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ECE-518A-4B66-BFF0-80B817C1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48E-F748-422E-85AE-3D62D1C9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31B-E1DB-43D6-85B8-18FA8E59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59C-ECA9-443A-9B54-D70EE4A7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BF1-D860-462F-93D6-AA5ABDC1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16B-8526-416A-B7D2-E43AE027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60F-4DCF-47D3-A123-B9011936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34485-86FA-496B-8718-E750E2F86D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5:26:08Z</dcterms:created>
  <dc:creator/>
  <dc:description/>
  <dc:language>en-US</dc:language>
  <cp:lastModifiedBy/>
  <cp:revision>1</cp:revision>
  <dc:subject/>
  <dc:title/>
</cp:coreProperties>
</file>